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CE9-0150-4476-B503-CF9BEA86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912-676F-4267-A7AE-E6616B08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094-F4AF-4681-9EC4-84564ECE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D5B-B0A4-4B0C-B482-96AC9AF3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C252-EBDA-46ED-AF63-C2A633EF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9DE2-53B2-4F8B-B890-732DD1CB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8384-A1C7-48A0-BA37-68D97459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E8C7-0DAB-4AC0-ADBD-D2F9106E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B763-628A-4629-A352-B89773D7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923D-8CE5-41E7-91D9-83BB8EB8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E4C7-D640-4A8F-8BED-40BE4640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C49-7639-4783-90F3-E04E34EB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A5E6-828E-4E80-B887-D1D51B66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EF4A-E5B2-4CFF-9E75-31581321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917D-439E-49A4-9E38-21798908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74B1-250D-4D2F-A2CE-77A8451D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480E-E0D6-40D0-BE06-0E94DC98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065-0617-4C0E-A1D2-39174BF3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C61-D90F-4816-8478-3687420B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4A0-871B-4E58-9613-8734F587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7CC-2543-4607-9304-6C530BAB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2AA-9266-45B3-8378-3EFEED18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0CA-FB81-4A2D-892B-973083DB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02C3-6652-495C-A3F4-D48B3B2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AF8F-B2B7-4B73-B98E-2562814AB595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2371-F71C-48D0-B273-9A863D308269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89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ahoma"/>
              </a:rPr>
              <a:t>Lesson14   Dress and H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制作人：黄芳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　　　　　　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2006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99cc00"/>
                </a:solidFill>
                <a:latin typeface="Tahoma"/>
              </a:rPr>
              <a:t>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Homewor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1  Learn  the  words  and  expressions by  hear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2   Finish  off  the  exercises  of  activity boo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343400" y="1523880"/>
            <a:ext cx="2971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411280" y="3573360"/>
            <a:ext cx="4843440" cy="184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Teaching aim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7732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udy some new wor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dress  coat   hat  big  small  whose  too  se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cc"/>
                </a:solidFill>
                <a:uFillTx/>
                <a:latin typeface="Tahoma"/>
                <a:hlinkClick r:id="rId2" action="ppaction://hlinksldjump"/>
              </a:rPr>
              <a:t>Useful   expres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at  is  it ?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s  it  big or  small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hose  hat /dress / coat is this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t’s  too  small /big  for 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         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What  is  it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 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47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47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D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843280" y="3500280"/>
            <a:ext cx="63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843280" y="0"/>
            <a:ext cx="6300720" cy="3500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292720" y="2708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544500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co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5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2414520" cy="49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80000" y="1268280"/>
            <a:ext cx="2232000" cy="324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516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a   big    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64000" y="4797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a    small   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69228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882800">
            <a:off x="6534360" y="-263160"/>
            <a:ext cx="1078200" cy="2413080"/>
          </a:xfrm>
          <a:prstGeom prst="cloudCallout">
            <a:avLst>
              <a:gd name="adj1" fmla="val -46254"/>
              <a:gd name="adj2" fmla="val 6987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s it  big or sm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956720" y="1989000"/>
            <a:ext cx="936360" cy="1152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se______is   this  ?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Tahoma"/>
              </a:rPr>
              <a:t>Ms.  Li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:  Whose   hat  is  this  ? Is  this  your  hat ,  Danny 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4000" spc="-1" strike="noStrike">
                <a:solidFill>
                  <a:srgbClr val="66ff66"/>
                </a:solidFill>
                <a:latin typeface="Tahoma"/>
              </a:rPr>
              <a:t>Dann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 No, Ms. Liu .  It’s  too big /small   for   me.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233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Whose  dress  is  this ?  Is this  you  dress ,  Danny 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ann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o! It’s  too  small  for  me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Ms  Li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: Yes, Danny.  I  se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443640" y="4437000"/>
            <a:ext cx="2521080" cy="220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Ⅰ</a:t>
            </a: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华文新魏"/>
              </a:rPr>
              <a:t>翻译下面短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件新毛衣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件旧衬衣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个大苹果　　　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　一条小裙子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zh-CN" sz="3600" spc="-1" strike="noStrike">
                <a:solidFill>
                  <a:srgbClr val="000066"/>
                </a:solidFill>
                <a:latin typeface="Tahoma"/>
              </a:rPr>
              <a:t>一只红帽子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　　　　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198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new  sw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278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n  old   shi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2997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357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big    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4076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Tahoma"/>
              </a:rPr>
              <a:t>a   small    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72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ahoma"/>
              </a:rPr>
              <a:t>a   red   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Ⅱ </a:t>
            </a:r>
            <a:r>
              <a:rPr b="1" lang="zh-CN" sz="4400" spc="-1" strike="noStrike">
                <a:solidFill>
                  <a:srgbClr val="eaeaea"/>
                </a:solidFill>
                <a:latin typeface="Tahoma"/>
              </a:rPr>
              <a:t>做对话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 a  dialogue  by  using  “hat  / dress / coat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 the  dialogue they  mak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3:42:52Z</dcterms:created>
  <dc:creator>slq</dc:creator>
  <dc:description/>
  <dc:language>en-US</dc:language>
  <cp:lastModifiedBy>slq</cp:lastModifiedBy>
  <dcterms:modified xsi:type="dcterms:W3CDTF">2006-09-03T08:09:11Z</dcterms:modified>
  <cp:revision>2</cp:revision>
  <dc:subject/>
  <dc:title>Lesson14   Dress and Hat</dc:title>
</cp:coreProperties>
</file>